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DD7-3962-4B44-A542-52C04B32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F61-D084-40AE-B6E3-CC1253FE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779-AB9D-4D9C-B9A8-15D05E86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C2D-660B-4A29-AFB9-66CBA0F9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3E79B-2F43-459E-AD10-082B5015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E67D2-EA60-478F-BFF5-3BAD68BE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46528-87CE-4FA6-86BC-100A9F34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B5067-F6C9-4B71-A93C-5FDCD37E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7D37F-0F5C-4D57-988C-2BA5BD6B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45165-EB7D-4F4E-A01E-85766933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DA05D-BF9B-4F89-B40C-B946F168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64C-EDA1-4C35-B798-51BA8DCA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F9A8C-BD47-4523-976F-64E93DDF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D4345-D81B-4D23-9EBE-5C81179A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1C0EF-D43B-4C90-AB5D-6552677E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BF4FE-CD4C-4AF3-A23D-2AD212F2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3B05E-D935-411D-BB3A-F0DDAD21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3A4BC-BEAB-4C43-929E-9E2CC6FB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0651-A61E-4A69-B275-84411307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06B8-7A50-41A6-AE06-A334F326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C257-D0C4-460E-94A3-9217B087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75EC-9735-45F8-8C78-AA33B0E7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826-95C0-40D5-AFB9-FF3915DB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F1A34-9FE6-4EF0-B0BE-A068A0BE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B28B-9B56-446A-A8AC-5EDB582C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9CB9-A816-41F9-9767-C7BAE7CE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6787-934C-4312-BF62-6E12C2A5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D20C-7CA9-474E-ACD0-8F5639E3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D263-7920-403C-B7E6-176C8B73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0127C-4F77-4874-AD07-E68BCD41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C4F023-ADC9-442C-9739-39D1C05A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6E8659-B2AF-43EC-833C-B11A2C9A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10CD64-2F36-40B3-8676-36D5BD8D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E4F-8DA1-4265-BA42-D6B08994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9C2FA-F12B-45FC-B9DC-4E51D3EF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9C0CD-17E0-43BA-9AC6-F8070C85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CD409-239C-4818-B8D3-9A90A734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CBAF0D-1FE5-44D9-A922-DCC2D14B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C15E76-E679-4CEE-94EE-60AEF45F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2C5DB-D271-435B-8424-C9ED4BE9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A547E8-CFAC-4444-8BE7-B5202D71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B5A087-E4B4-4627-9935-8CC57B31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402D18-A8B2-4901-89CB-173CB3EF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77F-D7D1-4CA1-B8F7-D6BC0724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796-CC89-46E4-BA0B-119B6762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81B-B1CC-4CA4-86E0-DE2F3682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A13-FDFB-4FBC-AACD-B6DCD526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AA3-4914-466E-A02A-7D2B1256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3310-571B-4B62-AF0E-3CD02AE4E97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C38A-3CA8-4B50-8FFF-1A9FE81F15F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0E7E-5C47-430F-A58B-F24DE476413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E2C3-393A-49A4-AC20-1DA9DB48F26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3300"/>
                </a:solidFill>
                <a:latin typeface="Kristen ITC"/>
              </a:rPr>
              <a:t>Display Formats</a:t>
            </a:r>
            <a:endParaRPr b="0" lang="en-US" sz="8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Picture 7" descr="animated_teacher_2"/>
          <p:cNvPicPr/>
          <p:nvPr/>
        </p:nvPicPr>
        <p:blipFill>
          <a:blip r:embed="rId2"/>
          <a:stretch/>
        </p:blipFill>
        <p:spPr>
          <a:xfrm>
            <a:off x="685800" y="3809880"/>
            <a:ext cx="2482920" cy="2590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708440" y="3998880"/>
            <a:ext cx="34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41148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Kristen ITC"/>
              </a:rPr>
              <a:t>Educ 213 – Ed Tech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Kristen ITC"/>
              </a:rPr>
              <a:t>Melanie Jeane C. Galv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Kristen ITC"/>
              </a:rPr>
              <a:t>Education Progr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Kristen ITC"/>
              </a:rPr>
              <a:t>Ateneo de Davao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9f9f9"/>
                </a:solidFill>
                <a:latin typeface="Constantia"/>
              </a:rPr>
              <a:t>To put up a display…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Consider the following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Audience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Nature of your visuals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Communication/Instructional setting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Lesson/Communication objectives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Availability of various display  formats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685800"/>
            <a:ext cx="2487600" cy="2405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78440" y="601992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:  Lucido &amp; Borado.  Educational Technology, p 44-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Description of Term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Chalkboard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Multipurpose boards (visual aid panels)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efac9"/>
                </a:solidFill>
                <a:latin typeface="Constantia"/>
              </a:rPr>
              <a:t>useful for many purposes</a:t>
            </a: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efac9"/>
                </a:solidFill>
                <a:latin typeface="Constantia"/>
              </a:rPr>
              <a:t>With magnetic backing </a:t>
            </a: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efac9"/>
                </a:solidFill>
                <a:latin typeface="Constantia"/>
              </a:rPr>
              <a:t>With non-glare surface = to project films, slides overhead transparencies</a:t>
            </a: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180" name=""/>
          <p:cNvSpPr/>
          <p:nvPr/>
        </p:nvSpPr>
        <p:spPr>
          <a:xfrm>
            <a:off x="1378440" y="601992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:  Lucido &amp; Borado.  Educational Technology, p 44-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Description of Term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Pegboard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efac9"/>
                </a:solidFill>
                <a:latin typeface="Constantia"/>
              </a:rPr>
              <a:t>useful for displaying heavy objects (3d materials and visuals)</a:t>
            </a: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efac9"/>
                </a:solidFill>
                <a:latin typeface="Constantia"/>
              </a:rPr>
              <a:t>Metal hooks can be inserted to hold books, papers, &amp; other objects</a:t>
            </a: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183" name=""/>
          <p:cNvSpPr/>
          <p:nvPr/>
        </p:nvSpPr>
        <p:spPr>
          <a:xfrm>
            <a:off x="1378440" y="601992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:  Lucido &amp; Borado.  Educational Technology, p 44-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Description of Term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Bulletin Board Display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For posting brief news announcements or urgent interest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Constantia"/>
              </a:rPr>
              <a:t>Can be decorative for visual stimulation</a:t>
            </a: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186" name=""/>
          <p:cNvSpPr/>
          <p:nvPr/>
        </p:nvSpPr>
        <p:spPr>
          <a:xfrm>
            <a:off x="1378440" y="601992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:  Lucido &amp; Borado.  Educational Technology, p 44-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Description of Term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Cloth Board (Flannel Board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Magnetic Board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Flip Chart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Exhibit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</a:rPr>
              <a:t>Table</a:t>
            </a:r>
            <a:endParaRPr b="0" lang="en-US" sz="3200" spc="-1" strike="noStrike">
              <a:solidFill>
                <a:srgbClr val="fefac9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</a:rPr>
              <a:t>Shelf</a:t>
            </a:r>
            <a:endParaRPr b="0" lang="en-US" sz="3200" spc="-1" strike="noStrike">
              <a:solidFill>
                <a:srgbClr val="fefac9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</a:rPr>
              <a:t>disk</a:t>
            </a:r>
            <a:endParaRPr b="0" lang="en-US" sz="3200" spc="-1" strike="noStrike">
              <a:solidFill>
                <a:srgbClr val="fefac9"/>
              </a:solidFill>
              <a:latin typeface="Constantia"/>
            </a:endParaRPr>
          </a:p>
          <a:p>
            <a:pPr lvl="1" marL="7131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ac9"/>
              </a:solidFill>
              <a:latin typeface="Constantia"/>
            </a:endParaRPr>
          </a:p>
          <a:p>
            <a:pPr lvl="1" marL="7131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9" name="Text Placeholder 8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352680" cy="3240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911960" y="601992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:  Lucido &amp; Borado.  Educational Technology, p 44-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Tips for Bulletin Board Display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Generate a them and adopt it as a headline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Use simple words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Gather or produce materials such as photos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lect a background materia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Provide borders using ribbons, color paper, etc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Print or cut letters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Appraise display from a technical viewpoin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"/>
          <p:cNvSpPr/>
          <p:nvPr/>
        </p:nvSpPr>
        <p:spPr>
          <a:xfrm>
            <a:off x="1378440" y="601992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:  Lucido &amp; Borado.  Educational Technology, p 44-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5:27:13Z</dcterms:created>
  <dc:creator>LAB_E</dc:creator>
  <dc:description/>
  <dc:language>en-US</dc:language>
  <cp:lastModifiedBy>Melanie Jeane C. Galvez</cp:lastModifiedBy>
  <dcterms:modified xsi:type="dcterms:W3CDTF">2010-08-05T14:14:19Z</dcterms:modified>
  <cp:revision>10</cp:revision>
  <dc:subject/>
  <dc:title>Slide 1</dc:title>
</cp:coreProperties>
</file>